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B94-DBE3-423C-B41A-DF215060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121-10D8-409B-B14C-F13E5489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C0F-6104-41B2-A67F-B029EDA9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EA8-2175-4F8E-BEBA-9A17CDA8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AD2-CA46-4ED2-B9D1-E8A5EEFE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3B9-C2B0-43CA-84D3-5BE1951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205-4DD6-4491-A784-B68ACB52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BD3-9205-4A72-9851-075AC8E9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601-71F0-49BF-904B-E44371FF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38F-5726-4A50-B4DF-5E805F57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50E-901A-4A20-8532-1B59740E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620-B80A-4E31-BEA2-387E2039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76B0-394B-41A6-BDDD-8CA0413C1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 – India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3" descr=""/>
          <p:cNvPicPr/>
          <p:nvPr/>
        </p:nvPicPr>
        <p:blipFill>
          <a:blip r:embed="rId1"/>
          <a:stretch/>
        </p:blipFill>
        <p:spPr>
          <a:xfrm>
            <a:off x="-365040" y="1316160"/>
            <a:ext cx="9167760" cy="119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t2.gstatic.com/images?q=tbn:ANd9GcTfO3iPSaTi0MK55Mx4Ejd8eNC0MQ9LSFYG0N3tjsKAJ9liRHE1rJh4SmgO"/>
          <p:cNvPicPr/>
          <p:nvPr/>
        </p:nvPicPr>
        <p:blipFill>
          <a:blip r:embed="rId2"/>
          <a:stretch/>
        </p:blipFill>
        <p:spPr>
          <a:xfrm>
            <a:off x="2057400" y="2733840"/>
            <a:ext cx="54864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zong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ddhist center of prayer and stu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t3.gstatic.com/images?q=tbn:ANd9GcQ8MZNXKSLEEAjm4HE0gtPJ31KGTBQXAKqoP70_a147DS-UBvGn"/>
          <p:cNvPicPr/>
          <p:nvPr/>
        </p:nvPicPr>
        <p:blipFill>
          <a:blip r:embed="rId1"/>
          <a:stretch/>
        </p:blipFill>
        <p:spPr>
          <a:xfrm>
            <a:off x="1905120" y="1905120"/>
            <a:ext cx="495288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conti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landmass that is part of a continent but distinct from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905200" y="1514520"/>
            <a:ext cx="3333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so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asonal wind that blows for months at a time affecting the clim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://t0.gstatic.com/images?q=tbn:ANd9GcRuo1S5dvvQoaOc_adaqwrpum5JiROsrxTcfFKn5nNzqXGPyeEJoA2JNvnsTA"/>
          <p:cNvPicPr/>
          <p:nvPr/>
        </p:nvPicPr>
        <p:blipFill>
          <a:blip r:embed="rId1"/>
          <a:stretch/>
        </p:blipFill>
        <p:spPr>
          <a:xfrm>
            <a:off x="2057400" y="2057400"/>
            <a:ext cx="50292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nt fiber used for making rope, burlap bags, ec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http://t1.gstatic.com/images?q=tbn:ANd9GcQVh5LdH4YppUqH0HFvim3DYFwC721A85ymCOlkZJZD7CM88Raw"/>
          <p:cNvPicPr/>
          <p:nvPr/>
        </p:nvPicPr>
        <p:blipFill>
          <a:blip r:embed="rId1"/>
          <a:stretch/>
        </p:blipFill>
        <p:spPr>
          <a:xfrm>
            <a:off x="1828800" y="1676520"/>
            <a:ext cx="54100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ttage indust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e or village based industry where family members make their own goo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ttp://www.indiamike.com/files/images/80/92/11/cottage-industry-triplicane.preview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4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social class that is based on your ances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http://nataliepeart.files.wordpress.com/2011/10/caste_system-oo4t9n.jpg"/>
          <p:cNvPicPr/>
          <p:nvPr/>
        </p:nvPicPr>
        <p:blipFill>
          <a:blip r:embed="rId1"/>
          <a:stretch/>
        </p:blipFill>
        <p:spPr>
          <a:xfrm>
            <a:off x="914400" y="1219320"/>
            <a:ext cx="71308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incarn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lief in the rebirth of a person’s  soul in a new  body  after  dea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http://t2.gstatic.com/images?q=tbn:ANd9GcTejyEWqhT7zXB2_xlfzQAPT6MLcg8kQ3UP_2eoXNU4Ezv_YbnD"/>
          <p:cNvPicPr/>
          <p:nvPr/>
        </p:nvPicPr>
        <p:blipFill>
          <a:blip r:embed="rId1"/>
          <a:stretch/>
        </p:blipFill>
        <p:spPr>
          <a:xfrm>
            <a:off x="1523880" y="1447920"/>
            <a:ext cx="594360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nse storm system with heavy rain and high wi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3" descr="http://t0.gstatic.com/images?q=tbn:ANd9GcQA7Z6CSUIRVO_I4Od5cm12HrkUxqRIf8PjN9imlzcx10sRMktg"/>
          <p:cNvPicPr/>
          <p:nvPr/>
        </p:nvPicPr>
        <p:blipFill>
          <a:blip r:embed="rId1"/>
          <a:stretch/>
        </p:blipFill>
        <p:spPr>
          <a:xfrm>
            <a:off x="1523880" y="1582560"/>
            <a:ext cx="510552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sticid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ful  chemicals that kill crop-destroying  ins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http://i00.i.aliimg.com/photo/v0/114378710/PESTICIDES.jpg"/>
          <p:cNvPicPr/>
          <p:nvPr/>
        </p:nvPicPr>
        <p:blipFill>
          <a:blip r:embed="rId1"/>
          <a:stretch/>
        </p:blipFill>
        <p:spPr>
          <a:xfrm>
            <a:off x="1197000" y="1387440"/>
            <a:ext cx="61945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45:15Z</dcterms:created>
  <dc:creator>poweruser</dc:creator>
  <dc:description/>
  <dc:language>en-US</dc:language>
  <cp:lastModifiedBy>BHISD</cp:lastModifiedBy>
  <dcterms:modified xsi:type="dcterms:W3CDTF">2011-12-09T15:44:42Z</dcterms:modified>
  <cp:revision>11</cp:revision>
  <dc:subject/>
  <dc:title>Chapter 5 – India Vocabulary</dc:title>
</cp:coreProperties>
</file>